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606B-775A-4A39-9017-1D0DC1AAB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610E-2024-4D08-B8A8-F01391EA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FC54-3810-4A2A-AE19-012D52A6A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C32E-78C7-4553-843B-1A95D98F1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C6BE-FB37-471E-9E89-03AE01363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61D9-1A2B-4222-804C-8342608A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C5F7-CD2F-4102-8520-341D5CA7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83A8-0F99-43FD-A23F-681A58CA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D09C-57B2-4562-AC48-7D461CEB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2682-7FBA-40B7-B5CF-3FCD9568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1F04-0527-454B-B8DA-96BB9E1C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7885-0042-4302-AE3D-FC10A70A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FB82-5D66-4E05-8295-4B14DBB7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70C2-FF72-46EA-85E9-47B3AEB6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C449-3680-4DA6-86EC-E4F98A67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3104-7891-41B2-A087-446801F93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B92A-FB22-4B7B-9324-0A571BBA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6D0D-3B44-402D-8DC0-8D63656D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DCD6-CED2-407E-98C9-B4A1E5CD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6F7B-6E8A-4BBA-8C9A-48F89026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2CA8-429F-4A46-809F-A1108CEB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F303-80C0-4005-AC59-FEAFC616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907E-B755-458C-AD9C-235A2CF3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933E-984D-4A0E-AACA-57565AE4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0FE7-BDC1-4C6D-B941-9D3D62624E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1209-87C1-4A43-8317-8538F4F22A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r-romania.ro/articole/concepte-de-baza/700-comunicarea-prin-vestimentatie-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V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MATE FLORENTINA, IONESCU MARIAN,ISTRATE LAVI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050920" y="692280"/>
            <a:ext cx="2952720" cy="1665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2195640" y="2637000"/>
            <a:ext cx="40384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stume-contemporane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e7ff"/>
                </a:solidFill>
                <a:latin typeface="Arial"/>
              </a:rPr>
              <a:t>NE AJUTA VESTIMENTATIA IN COMUNICARE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?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VESTIMENTAT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E ASTAZI PRINCIPALA CALE DE MANIFESTARE A IDENTITATII,STABILESTE UN PLAN DE COMUNI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INELE DAU SENS CONTEXTULUI VIZU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UL IN CARE ARATAM INFLUENTEAZA IMPRESIILE CELORLA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987640" y="4941720"/>
            <a:ext cx="30970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d4d4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d4d4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" dur="1" fill="hold"/>
                                  <p:tgtEl>
                                    <p:spTgt spid="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d4d4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UNCTIILE COSTUMULUI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5075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 PROTECTIE-ne apara de factorii externi si de actiunea nefavorabila a mediulu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ETICA- scoate in evidenta partile frumoase ale corpulu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CIALA-diferentiaza purtatorul in functie de sex varsta,profesie ,religie,pozitie soci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932360" y="3789360"/>
            <a:ext cx="1943280" cy="1609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012000" y="2060640"/>
            <a:ext cx="1584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e7ff"/>
                </a:solidFill>
                <a:latin typeface="Arial"/>
              </a:rPr>
              <a:t>CRITERII DE ACCEPTARE A PRODUSULUI VESTIMENTAR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E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H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 CALI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e7ff"/>
                </a:solidFill>
                <a:latin typeface="Arial"/>
              </a:rPr>
              <a:t>STILURI VESTIMENTARE CONTEMPORANE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S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re eleganta si rafin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RO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prezinta sobrietate,caracter prac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MANT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sensibilitate ,suavi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380360" y="1557360"/>
            <a:ext cx="1224000" cy="1727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763640" y="3645000"/>
            <a:ext cx="1584360" cy="1512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7451640" y="4797360"/>
            <a:ext cx="865440" cy="2060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N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LCLOR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costume tradition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O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simplitate, conf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451640" y="476280"/>
            <a:ext cx="1511280" cy="1800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595840" y="2997360"/>
            <a:ext cx="32752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Comunicarea prin vestimentaţie 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o-RO" sz="2000" spc="-1" strike="noStrike">
                <a:solidFill>
                  <a:srgbClr val="ffffff"/>
                </a:solidFill>
                <a:latin typeface="Arial"/>
              </a:rPr>
              <a:t>Haina îl face pe om. Oamenii goi au influenţat puţin sau deloc societatea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- Mark Twain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Unul dintre atributele pozitive ale vestimentaţiei este acela că poate transforma starea de spirit a unui individ. Îmbracă-te ca un om de afaceri şi ai mai multe şanse de a acţiona ca un om de afaceri. Ce facem cu depresia de dimineaţă? Femeile folosesc puterea garderobei personale pentru a-şi îmbunătăţi starea de spirit. Efectul de transformare este puternic şi eficient instantaneu; ceea ce este cel mai uimitor este faptul că atât de puţini bărbaţi îl utilizează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BIBLIOGRAFIE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www.pr-romania.ro/articole/concepte-de-baza/700-comunicarea-prin-vestimentatie-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hnologii de confectionare a produselor-Gh.Ciont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ume si stiluri vestimentare-Auxiliar Curricular,M.E.C.T.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stimentatia-expresie a imaginii umane contemporane –Teza de doctorat-drd.C.Busturea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06:01:35Z</dcterms:created>
  <dc:creator>A</dc:creator>
  <dc:description/>
  <dc:language>en-US</dc:language>
  <cp:lastModifiedBy>A</cp:lastModifiedBy>
  <dcterms:modified xsi:type="dcterms:W3CDTF">2010-08-31T21:16:10Z</dcterms:modified>
  <cp:revision>5</cp:revision>
  <dc:subject/>
  <dc:title>COSTUME-CONTEMPORANE</dc:title>
</cp:coreProperties>
</file>